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92D-F96B-4F3B-A87B-556F974E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756-BC6E-4588-9599-4D68BC84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01B-3E54-4583-9A19-EB78A9F1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FC9-0070-436D-9A39-E34BEE87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AA6-A096-445B-A92F-8145508B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799-C0BA-47D3-B897-433378E2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05A-850F-4E3F-8AEF-316616E3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ED0-D9EA-4609-9BC3-78D0A739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A44-040E-4309-987B-75F099E9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14A-18C5-4493-99B6-3BF6FAAE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75E-1AA4-4131-8D0C-C97B62A5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A9E-21E9-4CC1-9F53-04ADF7A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AA1E9-5A2F-4FC3-9374-A4B9C9DF6F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2C7F8-874E-47CF-8840-79D7923B3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roup 2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had Al-Em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ssica N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k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ek Bessaa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ise in the 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y Fi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age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ise in the 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rses S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qui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Long Ha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ff talking with Patients and amongst themsel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ffic of pat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rses had to repeat themselves (not heard over the nois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Kinds of Noi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ne Rin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tesy ph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ing of He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conversations at o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fi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 up near the parking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ge in hallways un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 escorted tr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wayfi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e at Regis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Registration (Quick R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up for taking vital signs upon arri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is placed into the Information System at that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is quite lengthy (15mins per pati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registration l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0:22:08Z</dcterms:created>
  <dc:creator>Jessica Nance</dc:creator>
  <dc:description/>
  <dc:language>en-US</dc:language>
  <cp:lastModifiedBy> </cp:lastModifiedBy>
  <dcterms:modified xsi:type="dcterms:W3CDTF">2008-09-22T02:17:03Z</dcterms:modified>
  <cp:revision>5</cp:revision>
  <dc:subject/>
  <dc:title>Observations at Emory </dc:title>
</cp:coreProperties>
</file>